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56D-AF2E-4F91-9545-53C531133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4D7-7257-4C85-8B1C-6E97800B6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012-2392-4705-8794-48F9FF3CA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CB3-A7EC-4FA1-A3DB-E8ACD90FE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6E3C-39B8-4FB7-8211-FD3DEE9E1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7526-701F-4637-8774-DF4F058B3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4701-F14E-4101-A53E-873994B43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5645-FE40-4D4C-A33B-A725561A1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FCD-FB43-40CF-9843-D494E525E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F00-ECD8-4DE2-96AF-A585D9D50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311-DF0D-4E30-ACD6-629C0DBE9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83D-6AA9-4CBA-8D08-3A97D2E6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4F0E-8EF7-46CA-B041-1887573F1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771E-4A72-4351-9471-4F162B53F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8BA-D890-4C80-8801-0B9C5AC2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E69-8D0B-4376-9937-F72BD03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3E6-1673-42DA-A805-8B1F4921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0F8-BBCA-4CBC-B523-B8F121B8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38D8-3538-453C-8ACD-8625EEEF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975-0509-4745-BE66-E43694B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B64E-CB86-4528-B7BC-392A006A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E92C-496B-40C6-BDA0-BED3C3D6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5CDC-228F-452C-872A-96B658A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2E2-0526-4163-8016-B401100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0765-AFC6-421E-8B5D-1F320539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3FE-FF44-4DF2-80CE-FFF4BC65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ECF2-4DE4-4E1E-8FA4-0FE2844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7D98-2AA1-4925-9894-4A47774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323B-8670-48B2-8FF3-A744F7C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406E-37B8-4E37-B35D-03108BBE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9B0-580C-46B5-A863-080A6E89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8433-1624-401F-A5E7-CD030760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C8D8-EBD3-44FC-A13F-5584676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62A5-3132-433A-BA6B-65FA04D2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BCB8-5684-459B-97FC-AFF06B1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DBA7-D08E-46FB-8016-DA3738E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495-35BD-4A0E-A4C9-F370584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9645-9C83-4F68-B5AC-52B5286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CE6D-6232-47E9-BDA3-7C5E6F5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6A0A-5858-4BD4-985D-72D62C3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BFC1-1033-40AC-9DF9-EAD81B0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FA15-9E03-48C6-8A28-814C867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B1F7-53A1-46DB-8156-A7F66872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662A-7167-4CD3-BA91-6E97851D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D088-0749-4378-ABD9-BECF3A16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E8F0-8E49-4B9E-BF79-9872E14E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3B8D-28C6-488A-A5BB-B101CC8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310-462B-46E1-BDA4-22D46D3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9DEF-5251-4F27-91F4-3B61AAC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22DF-7D8C-4A56-894B-2F9DC75B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8DC1-996F-4532-BD68-FD6B821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6E8D-5F81-4A4E-8747-B8D9C6DD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278B-2B4E-404E-82CD-B14386D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90BE-C676-4390-AB5B-536C9A5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31C5-C2D9-4205-9076-70AC69F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41E2-A4C9-4E55-BCC7-25B81558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D4D9-F8F7-4F56-8070-D58E0226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1EE2-A0F9-4725-8D24-407F346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803-00EC-47F4-9FB2-156D79A7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0D6D-33A6-4484-8140-0EA66BC8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028E-B724-4AFC-AB3E-8CB033D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C02BE-7854-4312-B1CD-D49EF22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6027-7BF3-4BDF-93F4-D0E58D5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9ED1-91EF-4989-9C3C-8C0A57C2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9408-1C25-4A14-B858-F7E96A3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DFF2-C74D-4E48-9364-64FC478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BC8E-C536-4514-877C-E2E9865F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D4D0-467A-4995-9598-F454123A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1095-0C75-4EF3-BD4B-60AF7938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F7C-10CB-4BFA-B582-48A05B2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8EAB-FA3C-43E8-919F-2744F59A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D0F6-C9EA-4446-A814-D66E22C7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43D7-5715-4B87-8269-60766A4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988F9-E840-4EC2-8356-5AB1BF2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DCFE-0DF6-4111-884A-80DD2FA5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F595-8D0D-45B4-9DAF-18608A69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E252-5AF4-43BC-A4F0-ECEB7F91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D117-A7D7-4897-8471-DB5C883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5EAD-71DF-4C09-804C-C0B4B30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B857-0EA1-49D2-9B6A-C22FAD9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C88-5C59-4E53-B8FB-63C4EEB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B892-F789-47C3-8D84-01F7B005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67B2D-CEDD-4EB3-9300-5494FE10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C5E8-2776-4318-A3DF-3B2264C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1736-08BE-4EDF-A089-313E5399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D967-6B7F-45A6-B9D1-E1DD20F2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99EC-B569-40AC-9956-219D5BA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CA19-4D56-4D60-A627-03D06F4B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25DE-C174-41D2-B54C-FEF0362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DEA4-AA00-494B-B259-AEB418E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D6B4A-BEF3-4C31-97AE-B376D48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207-31F9-478D-B9F7-27DE779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DEA5C-2683-4834-BA07-9A69715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E596-16D5-40E2-B99F-35ECEEE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8FC9-59B1-4482-96FD-A3B0683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B271-7BE7-45DD-AEC9-AAC8F7B8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36D1A-3481-4EBB-B212-3B04608B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93CA-C20C-4739-9C88-AC1C6755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EDE98-D1E1-4B71-90F0-26DC4D1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FDBA-3709-459A-A9F0-2A42996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F4C82-CE9B-4E06-973C-CAA1634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144FE-2B36-4E31-8113-6D65133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706-BBD1-4342-9C17-E50D950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2CDD-ED47-4B6B-AAE3-94A6254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A354A-30DD-4D28-8F2B-C05AC6E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171C-1BF2-43FE-B090-37CEA93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1B5DB-E22B-40C7-98C4-010C025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68A05-E621-480B-856F-C0986FE6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B853-27A1-4C77-9366-63AFDB77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6933-D340-4645-8FCD-1F1EDD0F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44C7-4EA3-4965-BFF8-737EB1274A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B44-DA42-4ED5-B7B9-AF0056367F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FB0C-010C-4883-8DFD-63E20C322E6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8B5-5114-416F-8F1C-7B1320F8E60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1EF1-0AF3-4EE6-9CB9-8152DD48AA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E6B-547B-49E3-8F53-3126BF912C4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46F-3461-4628-A9A9-FB7195C8E4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2DA1-62E9-4F0F-9CC4-00216DA7967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2ALpg1HaY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4QEzJe6_ok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Subject Pronouns &amp; Ser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be” is the hardest verb in English to understa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do we use “ser”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describe people or th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tell what someone or something i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a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n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ia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a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doctor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Englis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 Unicode"/>
              </a:rPr>
              <a:t>Spanish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Picture 2" descr="C:\Users\Crystal\Pictures\conjugation chart.jpg"/>
          <p:cNvPicPr/>
          <p:nvPr/>
        </p:nvPicPr>
        <p:blipFill>
          <a:blip r:embed="rId3"/>
          <a:stretch/>
        </p:blipFill>
        <p:spPr>
          <a:xfrm>
            <a:off x="152280" y="19810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Users\Crystal\Pictures\conjugation chart.jpg"/>
          <p:cNvPicPr/>
          <p:nvPr/>
        </p:nvPicPr>
        <p:blipFill>
          <a:blip r:embed="rId4"/>
          <a:stretch/>
        </p:blipFill>
        <p:spPr>
          <a:xfrm>
            <a:off x="4343400" y="1981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609480" y="1752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480" y="28195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37339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33720" y="182880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133720" y="281952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133720" y="373392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800600" y="19810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y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800600" y="2895480"/>
            <a:ext cx="990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re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800600" y="37339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248520" y="19810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mos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248520" y="281952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is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248520" y="3809880"/>
            <a:ext cx="99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on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461440" cy="1195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Crystal\Pictures\conjugation chart.jpg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286520"/>
          </a:xfrm>
          <a:prstGeom prst="rect">
            <a:avLst/>
          </a:prstGeom>
          <a:ln w="0">
            <a:noFill/>
          </a:ln>
        </p:spPr>
      </p:pic>
      <p:pic>
        <p:nvPicPr>
          <p:cNvPr id="437" name="Rectangle 7" descr=""/>
          <p:cNvPicPr/>
          <p:nvPr/>
        </p:nvPicPr>
        <p:blipFill>
          <a:blip r:embed="rId3"/>
          <a:stretch/>
        </p:blipFill>
        <p:spPr>
          <a:xfrm>
            <a:off x="835200" y="1249200"/>
            <a:ext cx="1079280" cy="51300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8" descr=""/>
          <p:cNvPicPr/>
          <p:nvPr/>
        </p:nvPicPr>
        <p:blipFill>
          <a:blip r:embed="rId4"/>
          <a:stretch/>
        </p:blipFill>
        <p:spPr>
          <a:xfrm>
            <a:off x="878040" y="2773440"/>
            <a:ext cx="981000" cy="512640"/>
          </a:xfrm>
          <a:prstGeom prst="rect">
            <a:avLst/>
          </a:prstGeom>
          <a:ln w="0">
            <a:noFill/>
          </a:ln>
        </p:spPr>
      </p:pic>
      <p:pic>
        <p:nvPicPr>
          <p:cNvPr id="439" name="Rectangle 9" descr=""/>
          <p:cNvPicPr/>
          <p:nvPr/>
        </p:nvPicPr>
        <p:blipFill>
          <a:blip r:embed="rId5"/>
          <a:stretch/>
        </p:blipFill>
        <p:spPr>
          <a:xfrm>
            <a:off x="115920" y="4145040"/>
            <a:ext cx="2414520" cy="512640"/>
          </a:xfrm>
          <a:prstGeom prst="rect">
            <a:avLst/>
          </a:prstGeom>
          <a:ln w="0">
            <a:noFill/>
          </a:ln>
        </p:spPr>
      </p:pic>
      <p:pic>
        <p:nvPicPr>
          <p:cNvPr id="440" name="Rectangle 10" descr=""/>
          <p:cNvPicPr/>
          <p:nvPr/>
        </p:nvPicPr>
        <p:blipFill>
          <a:blip r:embed="rId6"/>
          <a:stretch/>
        </p:blipFill>
        <p:spPr>
          <a:xfrm>
            <a:off x="4340160" y="1249200"/>
            <a:ext cx="1981440" cy="513000"/>
          </a:xfrm>
          <a:prstGeom prst="rect">
            <a:avLst/>
          </a:prstGeom>
          <a:ln w="0">
            <a:noFill/>
          </a:ln>
        </p:spPr>
      </p:pic>
      <p:pic>
        <p:nvPicPr>
          <p:cNvPr id="441" name="Rectangle 11" descr=""/>
          <p:cNvPicPr/>
          <p:nvPr/>
        </p:nvPicPr>
        <p:blipFill>
          <a:blip r:embed="rId7"/>
          <a:stretch/>
        </p:blipFill>
        <p:spPr>
          <a:xfrm>
            <a:off x="4383000" y="2773440"/>
            <a:ext cx="1706760" cy="51264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12" descr=""/>
          <p:cNvPicPr/>
          <p:nvPr/>
        </p:nvPicPr>
        <p:blipFill>
          <a:blip r:embed="rId8"/>
          <a:stretch/>
        </p:blipFill>
        <p:spPr>
          <a:xfrm>
            <a:off x="4243320" y="4145040"/>
            <a:ext cx="3363840" cy="512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2514600" y="182880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362320" y="30481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590920" y="4572000"/>
            <a:ext cx="66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257800" y="190512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m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257800" y="3276720"/>
            <a:ext cx="1219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410080" y="4876920"/>
            <a:ext cx="106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rammar Video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v2ALpg1H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Yo ___________ de Perú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I am from Perú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aría _______ de Colomb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María is from Colombia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osotros __________ de Uruguay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We are from Uruguay.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actica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. Fill in the blan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rlos y Paco ________ de Venezuel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na y yo __________ de Cub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ra. Rodriquez __________ maestr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os chicos _________ estudiant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I. Transl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am from Puerto Rico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girls are frien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e are from Bolivia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actica (cont.)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II. Answer the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Eres de Cuba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Son Miguel y Juan de Nicaragua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¿Eres doctor o estudiant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 does “ser” mean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y do we use “ser”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w do we conjugate “ser”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 rot="20416200">
            <a:off x="47160" y="3581280"/>
            <a:ext cx="909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me to Practice what you have learned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Speaking and Writing Practic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ch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10 people where they are from in Spanis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the information on your cha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you have 10 have a seat and wait until everyone is finished you will write a story in completely in Spanish based on the information that you have gather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xampl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ranslate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Hello, my name is… I have (yo tengo) 10 friends. We are from different places (lugares diferentes). [Write sentences that describe where you all are from based on your results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57200" y="1481040"/>
          <a:ext cx="4038480" cy="4048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l estudi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 d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gu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locksvil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v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ysvil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w Ber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l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ent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oy de New Ber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</a:t>
            </a:r>
            <a:r>
              <a:rPr b="1" i="1" lang="en-US" sz="2700" spc="-1" strike="noStrike">
                <a:solidFill>
                  <a:srgbClr val="00b050"/>
                </a:solidFill>
                <a:latin typeface="Lucida Sans Unicode"/>
              </a:rPr>
              <a:t>comple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sentences in Spanish must have a _________ and a _______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ha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sentence is talking ab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jempl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a is nice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.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ore is bi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.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Rectangle 3" descr=""/>
          <p:cNvPicPr/>
          <p:nvPr/>
        </p:nvPicPr>
        <p:blipFill>
          <a:blip r:embed="rId2"/>
          <a:stretch/>
        </p:blipFill>
        <p:spPr>
          <a:xfrm>
            <a:off x="1139760" y="1779480"/>
            <a:ext cx="1725840" cy="5191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4" descr=""/>
          <p:cNvPicPr/>
          <p:nvPr/>
        </p:nvPicPr>
        <p:blipFill>
          <a:blip r:embed="rId3"/>
          <a:stretch/>
        </p:blipFill>
        <p:spPr>
          <a:xfrm>
            <a:off x="3925800" y="1779480"/>
            <a:ext cx="1054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bject pronouns 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replac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ubject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o no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the meaning of the sent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jempl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a is n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oys are tal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429240" cy="4219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362320" y="1600200"/>
            <a:ext cx="1066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14600" y="2971800"/>
            <a:ext cx="1066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828800" y="419112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É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28800" y="4952880"/>
            <a:ext cx="1066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200400" y="4572000"/>
            <a:ext cx="106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te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334120" y="167652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sotros(as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181480" y="28954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osotros(as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876920" y="487692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a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876920" y="41911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l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400800" y="44956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tede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600" y="1600200"/>
            <a:ext cx="19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Pers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2971800"/>
            <a:ext cx="19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nd Perso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4419720"/>
            <a:ext cx="1933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rd Person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438280" y="22860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ngula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57800" y="38088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ur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usana is tall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iliana and Juan are friend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boys are in the park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lipe lives in a big white hous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ou are very nic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is a subje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do you need in order to create a complete sente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subject pronou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are your subject pronouns in Spanis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LOS VERBOS 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(That’s What’s Happening!)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youtube.com/watch?v=h4QEzJe6_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verb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Spanish end in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–ar/-er/-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can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a complete sentence without a subject and a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conjugat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nconjugate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of the ver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identify the infinitiv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Rectangle 3" descr=""/>
          <p:cNvPicPr/>
          <p:nvPr/>
        </p:nvPicPr>
        <p:blipFill>
          <a:blip r:embed="rId2"/>
          <a:stretch/>
        </p:blipFill>
        <p:spPr>
          <a:xfrm>
            <a:off x="1822320" y="2816280"/>
            <a:ext cx="1878120" cy="865080"/>
          </a:xfrm>
          <a:prstGeom prst="rect">
            <a:avLst/>
          </a:prstGeom>
          <a:ln w="0">
            <a:noFill/>
          </a:ln>
        </p:spPr>
      </p:pic>
      <p:pic>
        <p:nvPicPr>
          <p:cNvPr id="412" name="Rectangle 4" descr=""/>
          <p:cNvPicPr/>
          <p:nvPr/>
        </p:nvPicPr>
        <p:blipFill>
          <a:blip r:embed="rId3"/>
          <a:stretch/>
        </p:blipFill>
        <p:spPr>
          <a:xfrm>
            <a:off x="5022720" y="2822400"/>
            <a:ext cx="1816200" cy="865440"/>
          </a:xfrm>
          <a:prstGeom prst="rect">
            <a:avLst/>
          </a:prstGeom>
          <a:ln w="0">
            <a:noFill/>
          </a:ln>
        </p:spPr>
      </p:pic>
      <p:pic>
        <p:nvPicPr>
          <p:cNvPr id="413" name="Rectangle 5" descr=""/>
          <p:cNvPicPr/>
          <p:nvPr/>
        </p:nvPicPr>
        <p:blipFill>
          <a:blip r:embed="rId4"/>
          <a:stretch/>
        </p:blipFill>
        <p:spPr>
          <a:xfrm>
            <a:off x="1663560" y="4121280"/>
            <a:ext cx="1592280" cy="85860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6" descr=""/>
          <p:cNvPicPr/>
          <p:nvPr/>
        </p:nvPicPr>
        <p:blipFill>
          <a:blip r:embed="rId5"/>
          <a:stretch/>
        </p:blipFill>
        <p:spPr>
          <a:xfrm>
            <a:off x="4718160" y="3968640"/>
            <a:ext cx="24685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6:49:16Z</dcterms:created>
  <dc:creator>Crystal</dc:creator>
  <dc:description/>
  <dc:language>en-US</dc:language>
  <cp:lastModifiedBy>ctaylor-simon</cp:lastModifiedBy>
  <dcterms:modified xsi:type="dcterms:W3CDTF">2011-10-04T14:29:12Z</dcterms:modified>
  <cp:revision>41</cp:revision>
  <dc:subject/>
  <dc:title>Slide 1</dc:title>
</cp:coreProperties>
</file>